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D9E0-012B-43CF-82B1-55C0BF4FF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3C68-D910-4CB9-89D3-182DBE1C9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B449-14CF-426B-A38C-716763FBC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6717-6FC9-44D8-A952-BE75B3777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D4B4-EC12-4B73-94F2-D1A1E7E89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DAF6-E533-4311-BF2F-9A964CDD6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82AB-ECFD-4FEC-8926-3448CDC2A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BC85-DC09-43E3-94B3-60DF19BA6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D20B-570A-4BA8-9278-8466EC01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995-85B1-488C-8C0E-854D5AE0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B49-E64D-47E4-964E-4B94C603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CDD1-3990-45BF-AD06-F917BEDF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7E9F-C74C-4618-8BF0-85BD629B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31D5-4830-4BA0-AD49-D69C8498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F941-F350-4AED-9AF9-89C10AEA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A3F-3D68-4587-8671-5679AAE5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6175-ABD9-4685-9DDC-627D0513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179F-B78E-4FCC-A9A5-B2CFAF8E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FCD9-7896-4A46-820F-924C68A0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104E-1B5E-45D8-962F-1F3AAF15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A59C-7AD4-419A-933F-658520CD9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5714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ward to 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800600" y="4038480"/>
            <a:ext cx="1930320" cy="19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6781680" y="2590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7543800" y="4495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7772400" y="571644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380880" y="76212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esteemed tex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0" y="312408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esteemed author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"/>
          <p:cNvPicPr/>
          <p:nvPr/>
        </p:nvPicPr>
        <p:blipFill>
          <a:blip r:embed="rId5"/>
          <a:srcRect l="7501" t="0" r="7501" b="0"/>
          <a:stretch/>
        </p:blipFill>
        <p:spPr>
          <a:xfrm>
            <a:off x="6172200" y="228600"/>
            <a:ext cx="1943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1066680" y="533520"/>
            <a:ext cx="7010640" cy="106020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gh Qualit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3"/>
          <p:cNvSpPr/>
          <p:nvPr/>
        </p:nvSpPr>
        <p:spPr>
          <a:xfrm>
            <a:off x="2063880" y="1835280"/>
            <a:ext cx="2044440" cy="113652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4"/>
          <p:cNvSpPr/>
          <p:nvPr/>
        </p:nvSpPr>
        <p:spPr>
          <a:xfrm>
            <a:off x="4724280" y="1905120"/>
            <a:ext cx="2338560" cy="103320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5"/>
          <p:cNvSpPr/>
          <p:nvPr/>
        </p:nvSpPr>
        <p:spPr>
          <a:xfrm>
            <a:off x="3200400" y="3220920"/>
            <a:ext cx="2743200" cy="9842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6"/>
          <p:cNvSpPr/>
          <p:nvPr/>
        </p:nvSpPr>
        <p:spPr>
          <a:xfrm>
            <a:off x="2126880" y="1932120"/>
            <a:ext cx="1991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ss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’s the purpo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o will use the resul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4678920" y="1906560"/>
            <a:ext cx="24170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learning targets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 they clear?  Appropri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3200400" y="3352680"/>
            <a:ext cx="2666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method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muc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"/>
          <p:cNvSpPr/>
          <p:nvPr/>
        </p:nvSpPr>
        <p:spPr>
          <a:xfrm>
            <a:off x="3886200" y="2895480"/>
            <a:ext cx="29196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0"/>
          <p:cNvSpPr/>
          <p:nvPr/>
        </p:nvSpPr>
        <p:spPr>
          <a:xfrm flipH="1">
            <a:off x="4647960" y="2895480"/>
            <a:ext cx="22860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4572000" y="4267080"/>
            <a:ext cx="0" cy="60984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2"/>
          <p:cNvSpPr/>
          <p:nvPr/>
        </p:nvSpPr>
        <p:spPr>
          <a:xfrm>
            <a:off x="3276720" y="4952880"/>
            <a:ext cx="2743200" cy="10670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3200400" y="5181480"/>
            <a:ext cx="2857680" cy="8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e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 to whom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4"/>
          <p:cNvSpPr/>
          <p:nvPr/>
        </p:nvSpPr>
        <p:spPr>
          <a:xfrm flipH="1" flipV="1">
            <a:off x="2514240" y="3047760"/>
            <a:ext cx="10666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36"/>
          <p:cNvSpPr txBox="1"/>
          <p:nvPr/>
        </p:nvSpPr>
        <p:spPr>
          <a:xfrm>
            <a:off x="152280" y="2286000"/>
            <a:ext cx="17910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2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WordArt 37"/>
          <p:cNvSpPr txBox="1"/>
          <p:nvPr/>
        </p:nvSpPr>
        <p:spPr>
          <a:xfrm>
            <a:off x="7238880" y="2209680"/>
            <a:ext cx="17910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3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WordArt 39"/>
          <p:cNvSpPr txBox="1"/>
          <p:nvPr/>
        </p:nvSpPr>
        <p:spPr>
          <a:xfrm>
            <a:off x="1295280" y="3429000"/>
            <a:ext cx="17910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4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WordArt 40"/>
          <p:cNvSpPr txBox="1"/>
          <p:nvPr/>
        </p:nvSpPr>
        <p:spPr>
          <a:xfrm>
            <a:off x="6019920" y="3505320"/>
            <a:ext cx="2819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5, 6, 7, 8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udent-Involv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ssessm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is the result of changes made in the mind of the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ction Button: Custom 5">
            <a:hlinkClick r:id="rId1" action="ppaction://hlinksldjump"/>
          </p:cNvPr>
          <p:cNvSpPr/>
          <p:nvPr/>
        </p:nvSpPr>
        <p:spPr>
          <a:xfrm>
            <a:off x="304920" y="304920"/>
            <a:ext cx="8534160" cy="6400800"/>
          </a:xfrm>
          <a:custGeom>
            <a:avLst/>
            <a:gdLst>
              <a:gd name="textAreaLeft" fmla="*/ 414720 w 8534160"/>
              <a:gd name="textAreaRight" fmla="*/ 8119440 w 8534160"/>
              <a:gd name="textAreaTop" fmla="*/ 414720 h 6400800"/>
              <a:gd name="textAreaBottom" fmla="*/ 5986080 h 6400800"/>
            </a:gdLst>
            <a:ahLst/>
            <a:rect l="textAreaLeft" t="textAreaTop" r="textAreaRight" b="textAreaBottom"/>
            <a:pathLst>
              <a:path w="28799" h="21600">
                <a:moveTo>
                  <a:pt x="0" y="0"/>
                </a:moveTo>
                <a:lnTo>
                  <a:pt x="28799" y="0"/>
                </a:lnTo>
                <a:lnTo>
                  <a:pt x="28799" y="21600"/>
                </a:lnTo>
                <a:lnTo>
                  <a:pt x="0" y="21600"/>
                </a:lnTo>
                <a:close/>
              </a:path>
              <a:path fill="lightenLess" w="28799" h="21600">
                <a:moveTo>
                  <a:pt x="0" y="0"/>
                </a:moveTo>
                <a:lnTo>
                  <a:pt x="28799" y="0"/>
                </a:lnTo>
                <a:lnTo>
                  <a:pt x="27399" y="1400"/>
                </a:lnTo>
                <a:lnTo>
                  <a:pt x="1400" y="1400"/>
                </a:lnTo>
                <a:close/>
              </a:path>
              <a:path fill="darken" w="28799" h="21600">
                <a:moveTo>
                  <a:pt x="28799" y="0"/>
                </a:moveTo>
                <a:lnTo>
                  <a:pt x="28799" y="21600"/>
                </a:lnTo>
                <a:lnTo>
                  <a:pt x="27399" y="20200"/>
                </a:lnTo>
                <a:lnTo>
                  <a:pt x="27399" y="1400"/>
                </a:lnTo>
                <a:close/>
              </a:path>
              <a:path fill="darkenLess" w="28799" h="21600">
                <a:moveTo>
                  <a:pt x="28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9" y="20200"/>
                </a:lnTo>
                <a:close/>
              </a:path>
              <a:path fill="lighten" w="28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i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is the process of gathering evidence of student learning in order to inform instructional decisions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tiggins - 5th ed. page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195588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1981080" y="3962520"/>
            <a:ext cx="300996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ssessment exemplar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“A Story of Assessment for Student Success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. 6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realistic?  Would it work in your school?  What’s require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5943600" y="4114800"/>
            <a:ext cx="18921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ssessment exempl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ary con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must be authentically involv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must set good targets and evaluative criter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al activities must match targets, must be tuned to learner’s initial state and well sequenced thereaf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must communicate effectively to stud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need to take responsibility for their own learn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4"/>
          <p:cNvSpPr/>
          <p:nvPr/>
        </p:nvSpPr>
        <p:spPr>
          <a:xfrm>
            <a:off x="1066680" y="533520"/>
            <a:ext cx="7010640" cy="106020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gh Qualit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2063880" y="1835280"/>
            <a:ext cx="2044440" cy="113652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4900680" y="1919160"/>
            <a:ext cx="2338200" cy="103356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3200400" y="3220920"/>
            <a:ext cx="2743200" cy="9842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126880" y="1932120"/>
            <a:ext cx="1991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ss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’s the purpo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o will use the resul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4854960" y="1920960"/>
            <a:ext cx="24170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learning targets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 they clear?  Appropri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3200400" y="3352680"/>
            <a:ext cx="2666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method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muc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3886200" y="2895480"/>
            <a:ext cx="29196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2"/>
          <p:cNvSpPr/>
          <p:nvPr/>
        </p:nvSpPr>
        <p:spPr>
          <a:xfrm flipH="1">
            <a:off x="4876560" y="2895480"/>
            <a:ext cx="22860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4572000" y="4267080"/>
            <a:ext cx="0" cy="60984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6"/>
          <p:cNvSpPr/>
          <p:nvPr/>
        </p:nvSpPr>
        <p:spPr>
          <a:xfrm>
            <a:off x="3276720" y="4952880"/>
            <a:ext cx="2743200" cy="10670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3200400" y="5181480"/>
            <a:ext cx="2857680" cy="8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e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 to whom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 flipH="1" flipV="1">
            <a:off x="2514240" y="3047760"/>
            <a:ext cx="10666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7"/>
          <p:cNvSpPr/>
          <p:nvPr/>
        </p:nvSpPr>
        <p:spPr>
          <a:xfrm>
            <a:off x="392040" y="647712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. 1.2, p. 20 – 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sessment can promote &amp; verify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the assessment must be cl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-level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2666880" y="43434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is Chapter 2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focus is on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urpos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f assess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will need to revisit this in the Pre-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2666880"/>
            <a:ext cx="84582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ear and appropriate targets are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know what’s important in your fiel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you state it clear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know what it might look like if students hit your targ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533520" y="19810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can promote &amp; verify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666880" y="43434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is Chapter 3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focus is on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earning tar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will need to revisit this da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can promote &amp; verify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and appropriate targets are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85800" y="32004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ccurate assessment is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e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ear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er Assessment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priat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minate Bias and Dist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4648320" y="480060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is a conglomer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book is sort of like tha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can promote &amp; verify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and appropriate targets are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assessment is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nd assessment requires effectiv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752480" y="5029200"/>
            <a:ext cx="2286000" cy="4597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 Lit.: B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4952880" y="46483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is part III of the book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 will condense it like a trash comp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20:12:03Z</dcterms:created>
  <dc:creator>Mark Roddy</dc:creator>
  <dc:description/>
  <dc:language>en-US</dc:language>
  <cp:lastModifiedBy>Seattle University</cp:lastModifiedBy>
  <dcterms:modified xsi:type="dcterms:W3CDTF">2011-01-07T17:49:29Z</dcterms:modified>
  <cp:revision>22</cp:revision>
  <dc:subject/>
  <dc:title>Onward to Chapter 1</dc:title>
</cp:coreProperties>
</file>